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057-4C13-44FC-A32A-0761ABAB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D58-64D6-44D1-9438-54DCD3B1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B74-35FA-4756-A01F-777C633C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3C7-0DE4-4C8C-AFEA-FB949AD7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42D2-1E4C-4C98-A73B-50AD3592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55C9-A1B7-46CB-B248-9187DC23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B6A0-F0AC-4F30-8A7E-4D69D63B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A5D2-1EA5-4CD5-BDAD-2A75CACA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479F-4E8F-4DDE-87C4-F8A0887D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8E14-748C-4E2D-9CDF-17666A98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0FC8-B6F0-4FF0-BB36-0CFA30AE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6F7-D385-402C-9C40-E17377AF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3A44-211B-42FC-9A6F-98954B10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0452-EB28-4124-B6A3-047D3EB6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AA51-77C2-4E4A-ABBE-9875045B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6E7E-C9B4-4FA5-85AA-69650D11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8EED-5AEE-4E12-9FD4-0FC1D064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89F-202A-4CAB-AA14-2D81C8B2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F0E-3C9E-4C76-9163-3DC2DF98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54C-2B30-477A-B987-3C77DA9C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2DE-7948-4203-9484-AA213BBB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BCD-C68F-45A8-8661-1F73EC0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E7A-3F06-41B0-91D6-C626487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16C-01BE-4E19-8BD4-E931724C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10F4-1A6D-4D81-BCC5-8657992DD4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3790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70EF-4AD5-4B45-AD03-B56305859E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2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884160"/>
            <a:ext cx="811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ystems Modelling and Simulation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7)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120" y="3860640"/>
            <a:ext cx="8210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I Single Station System and Type II Group Technology (Cellular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Essential Rea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. P. Groover (2001); Automation, Production Systems, and Computer Integrated Manufacturing; Second Edition; International Edition; Prentice Hall International, In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8160" y="64263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. Mousa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D346-88CE-4EF8-8EB2-5EA05B816A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chine Clust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machine does not require continuous attention from an operator, hence an operator can handle more than 1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considered as type I, because operator attention is required every work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ning level from M = 1 to M = 1/n (n is number of machines assigned to a wor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chine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mbination of two or more machines that produ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cal products or products with same cycle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506-281C-420E-BEAB-648993FCE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chine Clusters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machine cyc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the machine service time done by a wor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rovided that the machine is available at all time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he total cycle time would b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For a balanced system the number of machines that can be assigned to an operator would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27640" y="5445000"/>
                <a:ext cx="1368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24360" y="6021360"/>
            <a:ext cx="43200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62480" y="609300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ime for the operator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ve between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64000" y="5877000"/>
            <a:ext cx="360360" cy="35856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A89-F40B-4A22-B811-14EF5944AC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of CNC Lathes produce similar products at a rate of 2.2 min. (cycle time = 2.2 mi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an operator to load and unload the parts at 20 seconds (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0) and it takes 15 sec. to get to each machine (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machine idl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many machines can an operator handl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 service time = 4 X 20 = 80 sec, total walking time= 4X15=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idle time =&gt; 152 – 140 = 12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484360" y="3860640"/>
                <a:ext cx="56880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rPr>
                            <m:lit/>
                            <m:nor/>
                          </m:rPr>
                          <m:t xml:space="preserve"> se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   that is 4 machines per opera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7CE-6CFF-4B98-88E1-03C9A81DB1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oup Technology (GT) and Cellular Manufacturing (CM)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also see previous lecture note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T is a manufacturing philosophy in which similar parts are identified and grouped together to take advantage over their similarities and in design and production processes”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Groover 20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common form of production in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or batch manufacturing that needs to be more efficient and 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7B0-41EF-4A72-8D41-45B9D57EFE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G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are arranged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t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tion/service equipment are arranged into groups or cells to facilitate work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sation of tooling, fixturing and set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material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plans and schedules ar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tion in W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qualit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pecialised work-force and job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part and too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ing and Trace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222-9C79-4E35-AA95-1049F42551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roduction Flow Analysis (PFA) for GT and C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oneered by J. Burbridge (1963) is method for identifying part families and machine grouping based on production process flow (product route she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uses manufacturing process data rather than design data overco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s that may have similar design attributes (geometries) but require different process rou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s that may have different design attributes (geometries) but require identical process ro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AA4-2928-476B-BF10-B9358A2C92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mplistic Example PFA chart to determine Machine Grouping  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1" action="ppaction://hlinksldjump"/>
              </a:rPr>
              <a:t>Part Machine Incidence Matrix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[Groover 2001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55640" y="1557360"/>
          <a:ext cx="4032360" cy="3483000"/>
        </p:xfrm>
        <a:graphic>
          <a:graphicData uri="http://schemas.openxmlformats.org/drawingml/2006/table">
            <a:tbl>
              <a:tblPr/>
              <a:tblGrid>
                <a:gridCol w="1111320"/>
                <a:gridCol w="330120"/>
                <a:gridCol w="328680"/>
                <a:gridCol w="331920"/>
                <a:gridCol w="333360"/>
                <a:gridCol w="318960"/>
                <a:gridCol w="306360"/>
                <a:gridCol w="345960"/>
                <a:gridCol w="328680"/>
                <a:gridCol w="297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859280" y="2486160"/>
          <a:ext cx="4086360" cy="3463920"/>
        </p:xfrm>
        <a:graphic>
          <a:graphicData uri="http://schemas.openxmlformats.org/drawingml/2006/table">
            <a:tbl>
              <a:tblPr/>
              <a:tblGrid>
                <a:gridCol w="1125720"/>
                <a:gridCol w="334800"/>
                <a:gridCol w="324000"/>
                <a:gridCol w="301680"/>
                <a:gridCol w="334800"/>
                <a:gridCol w="334800"/>
                <a:gridCol w="335160"/>
                <a:gridCol w="312840"/>
                <a:gridCol w="347400"/>
                <a:gridCol w="335160"/>
              </a:tblGrid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44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885-6FBC-4A17-B9B3-D860258DD1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chematic Layout and Possible Part flow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2276640"/>
            <a:ext cx="6120000" cy="33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2276640"/>
            <a:ext cx="0" cy="33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00720" y="2276640"/>
            <a:ext cx="0" cy="33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2852640"/>
            <a:ext cx="792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3860640"/>
            <a:ext cx="792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3860640"/>
            <a:ext cx="79200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3213000"/>
            <a:ext cx="7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3213000"/>
            <a:ext cx="7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43640" y="2852640"/>
            <a:ext cx="79236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79200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2997360"/>
            <a:ext cx="289080" cy="288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6200" y="4005360"/>
            <a:ext cx="289080" cy="288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3500280"/>
            <a:ext cx="289080" cy="289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10920" y="342900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422100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4149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835280" y="3284280"/>
            <a:ext cx="79200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3429000"/>
            <a:ext cx="504720" cy="431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4437000"/>
            <a:ext cx="0" cy="43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4437000"/>
            <a:ext cx="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177336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27280" y="2133720"/>
            <a:ext cx="144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1773360"/>
            <a:ext cx="360360" cy="36036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43640" y="1773360"/>
            <a:ext cx="504720" cy="360360"/>
          </a:xfrm>
          <a:prstGeom prst="plus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143480" y="1700280"/>
            <a:ext cx="595440" cy="504720"/>
            <a:chOff x="7143480" y="1700280"/>
            <a:chExt cx="595440" cy="504720"/>
          </a:xfrm>
        </p:grpSpPr>
        <p:sp>
          <p:nvSpPr>
            <p:cNvPr id="212" name=""/>
            <p:cNvSpPr/>
            <p:nvPr/>
          </p:nvSpPr>
          <p:spPr>
            <a:xfrm>
              <a:off x="7307280" y="1773360"/>
              <a:ext cx="431640" cy="43164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177840 h 431640"/>
                <a:gd name="textAreaBottom" fmla="*/ 2538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43480" y="1700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65964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948360" y="2133720"/>
            <a:ext cx="503280" cy="7189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177336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3789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571640" y="2133720"/>
            <a:ext cx="647640" cy="107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3789360"/>
            <a:ext cx="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787640" y="2133720"/>
            <a:ext cx="936360" cy="1079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3645000"/>
            <a:ext cx="4316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35640" y="3789360"/>
            <a:ext cx="0" cy="719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818120" y="1700280"/>
            <a:ext cx="590760" cy="504720"/>
            <a:chOff x="7818120" y="1700280"/>
            <a:chExt cx="590760" cy="504720"/>
          </a:xfrm>
        </p:grpSpPr>
        <p:sp>
          <p:nvSpPr>
            <p:cNvPr id="225" name=""/>
            <p:cNvSpPr/>
            <p:nvPr/>
          </p:nvSpPr>
          <p:spPr>
            <a:xfrm>
              <a:off x="7977240" y="1773360"/>
              <a:ext cx="431640" cy="43164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177840 h 431640"/>
                <a:gd name="textAreaBottom" fmla="*/ 2538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120" y="17002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659640" y="342900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80360" y="42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16720" y="3429000"/>
            <a:ext cx="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235640" y="2060640"/>
            <a:ext cx="93636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3213000"/>
            <a:ext cx="43164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96360" y="4292640"/>
            <a:ext cx="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739-E638-4FE5-98AF-329DEDD3B6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Quantitative Analysis in C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 parts and machines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rder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ing machines in a G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lier Method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lier Method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342-DB94-44B7-A75E-E3EC974690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1. Grouping parts and machines by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Rank Order Clustering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[Groover 2001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. R. King (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 machin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y reducing the part machine incidence ma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E22-4B85-471A-9F65-95282ED907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remaining subjec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 and Type II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Assembl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ing The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847-BD64-4BF7-977F-A06C753D54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art Machine incidence Matrix Algorith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series of 1 and 0s from left to right in the matrix as binary number                                          . Ran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order of decreasing values. In case of a tie, rank the rows in the same order as they appear in the current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ing from top to bottom, is the new order of rows the same as the rank order determined in the previous step? –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step 7.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ot to next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rder the rows in the part-machine incidence matrix by listing them in decreasing rank order, start from the 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19640" y="198900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  to  i-1  number of row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758-47CF-4D3B-90A4-6196F59179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art Machine incidence Matrix Algorithm cont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2880" y="1773360"/>
            <a:ext cx="7575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c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um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matrix, read the series of 1 and 0s from the top to the bottom of the binar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 the columns in order of decreasing value. In case of a tie, rank the columns in the same order as they appear in the current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ing from left to right, is the current order of columns the same as the rank order determined in the previous step? –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t to step 7, else go to next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rder the columns in the part-machine incidence matrix by listing them in decreasing rank order, starting with the left column, go to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71640" y="2565360"/>
                <a:ext cx="31669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  to  j-1  number of column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75B-011D-4BDF-994E-B40D8B62C4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– First iter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16000" y="1484280"/>
                <a:ext cx="6696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nary Values    2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50" name=""/>
          <p:cNvGraphicFramePr/>
          <p:nvPr/>
        </p:nvGraphicFramePr>
        <p:xfrm>
          <a:off x="1547640" y="1773360"/>
          <a:ext cx="7070400" cy="3752280"/>
        </p:xfrm>
        <a:graphic>
          <a:graphicData uri="http://schemas.openxmlformats.org/drawingml/2006/table">
            <a:tbl>
              <a:tblPr/>
              <a:tblGrid>
                <a:gridCol w="1251360"/>
                <a:gridCol w="372600"/>
                <a:gridCol w="372240"/>
                <a:gridCol w="372600"/>
                <a:gridCol w="372240"/>
                <a:gridCol w="360000"/>
                <a:gridCol w="347400"/>
                <a:gridCol w="386640"/>
                <a:gridCol w="372600"/>
                <a:gridCol w="334440"/>
                <a:gridCol w="1762200"/>
                <a:gridCol w="766080"/>
              </a:tblGrid>
              <a:tr h="43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al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1E7-BE1B-45B2-BD86-E31AA279E2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– Second iter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71640" y="1700280"/>
          <a:ext cx="7772400" cy="4167000"/>
        </p:xfrm>
        <a:graphic>
          <a:graphicData uri="http://schemas.openxmlformats.org/drawingml/2006/table">
            <a:tbl>
              <a:tblPr/>
              <a:tblGrid>
                <a:gridCol w="1984320"/>
                <a:gridCol w="439560"/>
                <a:gridCol w="439920"/>
                <a:gridCol w="439560"/>
                <a:gridCol w="438480"/>
                <a:gridCol w="425160"/>
                <a:gridCol w="432000"/>
                <a:gridCol w="455400"/>
                <a:gridCol w="439920"/>
                <a:gridCol w="395280"/>
                <a:gridCol w="1882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nary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al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308720" y="2421000"/>
                <a:ext cx="28260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188-F5F3-40A6-830D-8F6E3439A4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– Solution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[Groover 2001 – more examples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16000" y="1413000"/>
          <a:ext cx="7772040" cy="4114440"/>
        </p:xfrm>
        <a:graphic>
          <a:graphicData uri="http://schemas.openxmlformats.org/drawingml/2006/table">
            <a:tbl>
              <a:tblPr/>
              <a:tblGrid>
                <a:gridCol w="2432880"/>
                <a:gridCol w="585360"/>
                <a:gridCol w="585720"/>
                <a:gridCol w="667800"/>
                <a:gridCol w="667440"/>
                <a:gridCol w="546120"/>
                <a:gridCol w="608400"/>
                <a:gridCol w="526320"/>
                <a:gridCol w="585360"/>
                <a:gridCol w="566640"/>
              </a:tblGrid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1403280" y="580536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B &amp; D can be put in either of the two machine groups since they require machines from group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verlapp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0920" y="2349360"/>
            <a:ext cx="576360" cy="935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3357720"/>
            <a:ext cx="578160" cy="9349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4365720"/>
            <a:ext cx="576360" cy="1295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228-E3EF-4FCC-82A0-76A01F7981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other alternative to overlapping – adding another Machine 1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971640" y="1916280"/>
          <a:ext cx="7772040" cy="4114440"/>
        </p:xfrm>
        <a:graphic>
          <a:graphicData uri="http://schemas.openxmlformats.org/drawingml/2006/table">
            <a:tbl>
              <a:tblPr/>
              <a:tblGrid>
                <a:gridCol w="2485080"/>
                <a:gridCol w="598320"/>
                <a:gridCol w="597960"/>
                <a:gridCol w="598680"/>
                <a:gridCol w="598320"/>
                <a:gridCol w="557640"/>
                <a:gridCol w="621720"/>
                <a:gridCol w="537480"/>
                <a:gridCol w="598680"/>
                <a:gridCol w="578160"/>
              </a:tblGrid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C51-35BB-4538-ABB8-4A8371D83C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2. Arranging machines in a GT cel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grouping machines into corresponding cells one needs to arrange them within the cell to minimise material handling between mach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i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D56-0B46-4B29-8B44-B89F8CE08D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llier Method 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-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 from process pla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sum of trip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machines to the cell based on minimu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lowest is a To (column), then it goes to the beginning – if the lowest is From (row), then the machine goes to the en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tie occurs on a row or a column, then the machine with minimum From/To ratio is sel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oth are the same it is passed over and the next machine with the lowest value is selected to go to the beginning or the end of the 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 machine is selected reforma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-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5DF-3DC5-4770-BCB7-DED269A932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[Groover 2001]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ere are 4 machines (1, 2, 3, and 4) in a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parts are to be processed shown in table (1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parts enter the group at machine 3, 20 parts leave after being processed at machine 1, and 30 parts leave after machin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nd a logical arrangement for the machines in the cell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135400" y="1981080"/>
          <a:ext cx="3809880" cy="3031920"/>
        </p:xfrm>
        <a:graphic>
          <a:graphicData uri="http://schemas.openxmlformats.org/drawingml/2006/table">
            <a:tbl>
              <a:tblPr/>
              <a:tblGrid>
                <a:gridCol w="995400"/>
                <a:gridCol w="620640"/>
                <a:gridCol w="588960"/>
                <a:gridCol w="589320"/>
                <a:gridCol w="426600"/>
                <a:gridCol w="588960"/>
              </a:tblGrid>
              <a:tr h="4752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1-1: From-To 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20C-6853-4447-8EE1-656C039BED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187280" y="1413000"/>
          <a:ext cx="4911840" cy="2849400"/>
        </p:xfrm>
        <a:graphic>
          <a:graphicData uri="http://schemas.openxmlformats.org/drawingml/2006/table">
            <a:tbl>
              <a:tblPr/>
              <a:tblGrid>
                <a:gridCol w="858960"/>
                <a:gridCol w="539640"/>
                <a:gridCol w="506520"/>
                <a:gridCol w="509760"/>
                <a:gridCol w="369720"/>
                <a:gridCol w="509760"/>
                <a:gridCol w="1617480"/>
              </a:tblGrid>
              <a:tr h="6408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1-2 From-To 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3132000" y="4581360"/>
            <a:ext cx="576360" cy="2087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67280" y="1773000"/>
            <a:ext cx="28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24520" y="148428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ution [3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42920" y="4292640"/>
          <a:ext cx="6244920" cy="2306520"/>
        </p:xfrm>
        <a:graphic>
          <a:graphicData uri="http://schemas.openxmlformats.org/drawingml/2006/table">
            <a:tbl>
              <a:tblPr/>
              <a:tblGrid>
                <a:gridCol w="977400"/>
                <a:gridCol w="613080"/>
                <a:gridCol w="576720"/>
                <a:gridCol w="418320"/>
                <a:gridCol w="581040"/>
                <a:gridCol w="1840680"/>
                <a:gridCol w="1237680"/>
              </a:tblGrid>
              <a:tr h="36216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1-3 From-To 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3492360" y="1989000"/>
            <a:ext cx="576360" cy="2087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635280" y="1773000"/>
            <a:ext cx="374508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0A0-015C-4165-91CD-2C5BA41A7A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discuss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tation manned and automat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of the two system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ingle station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technology and cellular 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s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flow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Plant layout using Precedence (From-To)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4A2-C2CD-483E-93CD-52820B93FB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173240" y="1981080"/>
          <a:ext cx="3830040" cy="2095200"/>
        </p:xfrm>
        <a:graphic>
          <a:graphicData uri="http://schemas.openxmlformats.org/drawingml/2006/table">
            <a:tbl>
              <a:tblPr/>
              <a:tblGrid>
                <a:gridCol w="699480"/>
                <a:gridCol w="435960"/>
                <a:gridCol w="414000"/>
                <a:gridCol w="414000"/>
                <a:gridCol w="1315080"/>
                <a:gridCol w="551520"/>
              </a:tblGrid>
              <a:tr h="4032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1-4 From-To 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1835280" y="3213000"/>
            <a:ext cx="2520720" cy="505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39000" y="1773360"/>
            <a:ext cx="37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 [3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4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211640" y="2133720"/>
            <a:ext cx="424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67280" y="5013360"/>
            <a:ext cx="576000" cy="503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76720" y="5013360"/>
            <a:ext cx="576360" cy="503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89680" y="503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73920" y="498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084720" y="5013360"/>
            <a:ext cx="576360" cy="503280"/>
            <a:chOff x="6084720" y="5013360"/>
            <a:chExt cx="576360" cy="503280"/>
          </a:xfrm>
        </p:grpSpPr>
        <p:sp>
          <p:nvSpPr>
            <p:cNvPr id="288" name=""/>
            <p:cNvSpPr/>
            <p:nvPr/>
          </p:nvSpPr>
          <p:spPr>
            <a:xfrm>
              <a:off x="6084720" y="5013360"/>
              <a:ext cx="576360" cy="503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2944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093080" y="5013360"/>
            <a:ext cx="576000" cy="503280"/>
            <a:chOff x="7093080" y="5013360"/>
            <a:chExt cx="576000" cy="503280"/>
          </a:xfrm>
        </p:grpSpPr>
        <p:sp>
          <p:nvSpPr>
            <p:cNvPr id="291" name=""/>
            <p:cNvSpPr/>
            <p:nvPr/>
          </p:nvSpPr>
          <p:spPr>
            <a:xfrm>
              <a:off x="7093080" y="5013360"/>
              <a:ext cx="576000" cy="503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3744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20364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489096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50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300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51640" y="5300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5300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01800" y="47973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Times New Roman"/>
              </a:rPr>
              <a:t>30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60360" y="58770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Times New Roman"/>
              </a:rPr>
              <a:t>20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88" idx="4"/>
            <a:endCxn id="299" idx="1"/>
          </p:cNvCxnSpPr>
          <p:nvPr/>
        </p:nvCxnSpPr>
        <p:spPr>
          <a:xfrm flipH="1" rot="16200000">
            <a:off x="6249240" y="5650200"/>
            <a:ext cx="5356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1" idx="6"/>
          </p:cNvCxnSpPr>
          <p:nvPr/>
        </p:nvCxnSpPr>
        <p:spPr>
          <a:xfrm flipV="1">
            <a:off x="7678440" y="5012640"/>
            <a:ext cx="494280" cy="253080"/>
          </a:xfrm>
          <a:prstGeom prst="curvedConnector5">
            <a:avLst>
              <a:gd name="adj1" fmla="val 48833"/>
              <a:gd name="adj2" fmla="val 50000"/>
              <a:gd name="adj3" fmla="val 48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5580000" y="2565360"/>
            <a:ext cx="1440000" cy="504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owest is in the 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3A2-62C7-40BC-8343-8EF328EAD1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llier Method 2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-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-To ratio for each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um Row / Sum of corresponding colum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range machines in the order of decreasing From-To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EAC-0C88-4FF4-A9D0-2DF5C040CC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2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173240" y="1981080"/>
          <a:ext cx="6278400" cy="2586240"/>
        </p:xfrm>
        <a:graphic>
          <a:graphicData uri="http://schemas.openxmlformats.org/drawingml/2006/table">
            <a:tbl>
              <a:tblPr/>
              <a:tblGrid>
                <a:gridCol w="796680"/>
                <a:gridCol w="497160"/>
                <a:gridCol w="471240"/>
                <a:gridCol w="470160"/>
                <a:gridCol w="341280"/>
                <a:gridCol w="471240"/>
                <a:gridCol w="1498680"/>
                <a:gridCol w="1731960"/>
              </a:tblGrid>
              <a:tr h="3988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From-To 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-To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0/50 = 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5/45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0 =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/40 = 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2906640" y="5013360"/>
            <a:ext cx="38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 = [3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843280" y="2924280"/>
            <a:ext cx="1944720" cy="1368360"/>
          </a:xfrm>
          <a:prstGeom prst="line">
            <a:avLst/>
          </a:prstGeom>
          <a:ln w="15840">
            <a:solidFill>
              <a:srgbClr val="3366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347640" y="3357720"/>
            <a:ext cx="1368360" cy="934920"/>
          </a:xfrm>
          <a:prstGeom prst="line">
            <a:avLst/>
          </a:prstGeom>
          <a:ln w="15840">
            <a:solidFill>
              <a:srgbClr val="3366cc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708360" y="3716280"/>
            <a:ext cx="1008000" cy="649440"/>
          </a:xfrm>
          <a:prstGeom prst="line">
            <a:avLst/>
          </a:prstGeom>
          <a:ln w="15840">
            <a:solidFill>
              <a:srgbClr val="3366cc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211640" y="4076640"/>
            <a:ext cx="504720" cy="289080"/>
          </a:xfrm>
          <a:prstGeom prst="line">
            <a:avLst/>
          </a:prstGeom>
          <a:ln w="15840">
            <a:solidFill>
              <a:srgbClr val="3366cc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93C-4EE7-483A-B975-4F032AD17C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ingle station manufacturing system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applicable to all systems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dependent units within a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, assemble or provide service independent from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or single product, batch, or mixed-model (different parts made sequenti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ned or Automat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49F-DF72-456B-B151-61837B5739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nned Cells &amp; Automated Cel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operator responsible for a task either using a specific machine, tools, computer, telephone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to set up and run with minimal capital expendi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quire high skilled op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machine handling parts/people etc. (example: CNC, robots, answering machines, computer servers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production r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AC6-0272-4EFB-A219-D503C66356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nned Cells &amp; Automated Cells 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80000" y="2708280"/>
            <a:ext cx="544320" cy="79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01680" cy="792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916360" y="2492280"/>
            <a:ext cx="328320" cy="863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578200" y="35481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utomatic Check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084720" y="2492280"/>
            <a:ext cx="352440" cy="1079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45080" y="2421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ssen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8920" y="354816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nual Check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203640" y="2565360"/>
            <a:ext cx="328680" cy="8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6516720" y="2637000"/>
            <a:ext cx="799920" cy="93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EE4-3804-4920-ADC4-2A56DEE722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nalysis of single station syste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workstation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2B0-9229-4920-85D9-1F1B4A9608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Number of workstations require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specified quantity of products at a specified production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determine the number of workstations based on that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L = Q T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= number of workstations      AT = Available time in a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L = worlkload for a given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 = Quantity to be produced for that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= cycle time required for each piece (time to ma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 = product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= Quantity of product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= cycle time for produ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659640" y="3789360"/>
                <a:ext cx="2016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211640" y="2708280"/>
                <a:ext cx="13683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CC0-0CF7-4A97-A650-C9AF755C45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of 1000 parts needs to be produced in a week, each part is identical and requires a milling machine, each part requires 12.5 min. to be pro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2.5 hrs to setup each machine (0.5 per day / 5 days week, total hours available in a week is 40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many Milling Machines are 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195640" y="3903840"/>
                <a:ext cx="5832360" cy="25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00</m:t>
                        </m:r>
                        <m:r>
                          <m:rPr>
                            <m:lit/>
                            <m:nor/>
                          </m:rPr>
                          <m:t xml:space="preserve">  mi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 h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Avaialble for a Milling machine in a Week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 h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  Machine or 6 machin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tlisatio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A24-E1EE-4231-8BA8-31C1DB03E1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12:07Z</dcterms:created>
  <dc:creator>emstaam</dc:creator>
  <dc:description/>
  <dc:language>en-US</dc:language>
  <cp:lastModifiedBy>emstaam</cp:lastModifiedBy>
  <dcterms:modified xsi:type="dcterms:W3CDTF">2011-09-09T08:30:54Z</dcterms:modified>
  <cp:revision>92</cp:revision>
  <dc:subject/>
  <dc:title>Discrete Modelling</dc:title>
</cp:coreProperties>
</file>