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249D-0A63-4C93-B290-921E3CEA3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representation of the model in symbolic or verb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alytical model uses formal reasoning and mathematical deduction (regression techniques, OR, curve fitting). Whilst numerical uses computational procedures (finite element analysis, fluid dynamics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dex set of process,  t is time   and X(t) is the random var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a multivariate system is more complicated to model than a univari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establish your input data and interrelationship between your elements in a simulation model you should be able to describe you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eries { X(t), t E 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second moment is X(t) to the power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learly any stationary process with finite second moment is covariance stationary. – A stationary process may have no finite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generative not really used but has good properties. But suppose you have a regenerative simulation consisting of m cycles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1, n2, …, n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ize – the mean value is total divided by number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batch means consists of a very long simulation which is suitably divided into initial transient period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batches. Each batch is then treated as an independent run, whilst no observation is made during the warm up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dependent replication is most popular for systems with short transient period. Method requires independent simulation runs (number of replications) using different random seeds for simulation random number generat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***VERY IMPORTANT FOR YOUR ASSIGNMENTS – I REQUIRE A GOOD NUMBER OF REPLICATIONS WITH VARIOUS SEEDS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 contact without actually touching one another. Adjacent in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5F9-6686-4AC1-B524-AF268A36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8C4-BCD1-43FD-81EB-1200403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D22-EB16-417D-9401-9C8B97EF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BEF-E407-4AF8-AF32-F9F9E9AA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859-6975-43BE-9037-D359A0D4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5398-4E93-4D1B-8755-BEFA57D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E83-D68E-4E0B-AC50-43B98A2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850-D138-49DE-B8D0-FC691990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768-01C1-469E-8E37-C26B09DD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47CC-E657-489E-9883-DE77D4BE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3BF2-378F-411C-A904-A30A879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B60-A243-48DC-B941-13EB558D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9CD3-521E-432C-B221-F4FA6B2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F2D-E051-437A-9410-288FC4B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038E-9D8A-4E36-9724-4C7DAF5A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07E5-32AB-47BC-AF9A-B701F546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F6E9-E8EA-4DB8-9C93-D62450B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75C-4243-4F54-8F2D-4FEE79A2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E7A-E595-449B-8472-440EF5B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84-E262-470C-A6E2-4A59A21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955-9063-4EBD-80F2-39B641EF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BD4-56BB-4B0A-A84D-FA7E654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F98-5080-42FB-AF48-049FA91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F15-660A-4463-8B79-B1125A77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DBF-FF26-4CCB-BA18-FD853476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827-A722-4DB5-9650-CB0290DC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88416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10920" y="3644640"/>
            <a:ext cx="8001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Modell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4 cours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environment as a time base dynamic system analysis t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previous theoretical discussions to practic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722-2313-44AA-8B1F-F48C83A1FB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Classification Sche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12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delling understanding the concept of the model is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figure24"/>
          <p:cNvPicPr/>
          <p:nvPr/>
        </p:nvPicPr>
        <p:blipFill>
          <a:blip r:embed="rId1"/>
          <a:srcRect l="0" t="-291" r="7" b="0"/>
          <a:stretch/>
        </p:blipFill>
        <p:spPr>
          <a:xfrm>
            <a:off x="1258920" y="2565360"/>
            <a:ext cx="7416720" cy="3192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16000" y="5805360"/>
            <a:ext cx="72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 Source: Balci O. (1987), Modelling and simulation class notes, Department of Computer Science, Virginia Tech., VA pp. 10-13, Sp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DE0-1685-4522-AB13-CDBA87728E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four dimensions for model classific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Balci (198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 representation and formulation (also see lecture note 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Sim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Model Objectives without preliminary value 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properties of the model (static vs. dyna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technique (analytical vs. numerical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0C9-28BB-42CB-BA6F-BE6C1CA2A9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Event Simulation can be classified as: abstract, dynamic, descriptive and numerical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129-E0EE-4EF1-8888-36CE3C3147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S Models can be 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its variables to be ei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or non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 or 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dy-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haviour remains similar in time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haviour changes in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itial input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put at any time during the simul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see lecture notes 1-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6B0-A527-4FCA-A5A1-08CF044170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fa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put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nature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time between arrivals, machine breakdow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relationship between system elements (i.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vai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mpl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the simulation should be a close approximation of the re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11D-5A60-48CE-B02D-00B05D89B4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Random Input variab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ly random input variable to a simulation could be considered 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chastic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chastic process is defined by collection of random variab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X(t), t in 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k = 1,2,3, …}    k: is the order of th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distribution fun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 = Pr {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=x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3141720"/>
            <a:ext cx="432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t of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796000" y="3357720"/>
            <a:ext cx="57636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141720"/>
            <a:ext cx="503280" cy="431640"/>
          </a:xfrm>
          <a:prstGeom prst="ellipse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30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Random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000" y="3357720"/>
            <a:ext cx="215640" cy="712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61F-F69B-426A-9BAC-D5B217A966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Univariate vs. Multivaria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ariate Pro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ach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a single quantity such as customer service time. 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the service time for custom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ariate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number of quantities such as service time for different type of products. So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… represent the type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6B2-D83A-42FB-BC31-22F171AA25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Input data in practi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istribution analysis and Curve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ata validation and verification (K-S and Chi-square tes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Distributions: Uniform, Normal, LogNormal Exponential, Poiss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DBD-A376-415C-9855-ED0FA01C77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. Example – Normal (Mean, StdDev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1964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013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2239920"/>
            <a:ext cx="3960720" cy="2484360"/>
          </a:xfrm>
          <a:custGeom>
            <a:avLst/>
            <a:gdLst/>
            <a:ahLst/>
            <a:rect l="l" t="t" r="r" b="b"/>
            <a:pathLst>
              <a:path w="2495" h="1565">
                <a:moveTo>
                  <a:pt x="0" y="1565"/>
                </a:moveTo>
                <a:cubicBezTo>
                  <a:pt x="144" y="1478"/>
                  <a:pt x="288" y="1391"/>
                  <a:pt x="454" y="1157"/>
                </a:cubicBezTo>
                <a:cubicBezTo>
                  <a:pt x="620" y="923"/>
                  <a:pt x="839" y="318"/>
                  <a:pt x="998" y="159"/>
                </a:cubicBezTo>
                <a:cubicBezTo>
                  <a:pt x="1157" y="0"/>
                  <a:pt x="1233" y="39"/>
                  <a:pt x="1407" y="205"/>
                </a:cubicBezTo>
                <a:cubicBezTo>
                  <a:pt x="1581" y="371"/>
                  <a:pt x="1861" y="938"/>
                  <a:pt x="2042" y="1157"/>
                </a:cubicBezTo>
                <a:cubicBezTo>
                  <a:pt x="2223" y="1376"/>
                  <a:pt x="2420" y="1460"/>
                  <a:pt x="2495" y="15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2349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01800" y="198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56280" y="50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49040" y="2421000"/>
            <a:ext cx="22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91C-530A-416E-9F48-FCB752E7B6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. Process Definition (System Logi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ttributes: Name, process time, schedule, capacity, MTBF, buffer size, priority rules, seize-delay-release rules, transport rul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: Location, capacity and other rul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ayout: Location of resourc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Sequence: Process plan, process flow, transportation between resourc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s: Type, capacity, speed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B16-C73B-4839-A1AD-A0D4A610D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discuss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be taken in a 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input /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techniques for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erification, validation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08C-00A8-46D6-B552-2325EB912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. Simulation Analysis of Resul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 and What-if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Estimation Applications (test and measure sensitivity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gen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E4D-BA78-4871-8FC2-C427E9BFE5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. Analysis 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erform statistical analysis of the simulation output we need to establish that output data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ariance stationary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the data collected over n simulation r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CF1-251C-4E16-8721-24EC11BCB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ationary Process (strictly stationary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ionary process is a stochastic process which probability distribution at a fixed time or 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(t),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} is the same for all times and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paramet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hange over the same time and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perator service time, mean time between arrival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142-E2D2-4AAA-8C9F-0CBD558381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variance Stationary proces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variance stationary process is a stochastic proc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 X(t), 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ing finite second mo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X(t)]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ochastic processes (covariance station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quence of 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 of random-value sequence of independent variables that are identically distributed having finit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being random variable with known distribution function,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=Z, the process {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} is stationary if Z has a finit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0720" y="234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610-D3E2-464B-A33A-303D059C3B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eady State Simul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steady state simulation output requires statistical as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iculty is to obtain independent simulation runs without the transi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opular techn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247-ED3C-494E-AC7B-88E90A4142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eady State Simul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erativ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390840" cy="1524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333960" cy="1857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26575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001-A25F-4036-9F6F-260EBF70DE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Experiment and Desig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 parameters and structural assumptions composing 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on which parameters in the model are fixed and which are experimental depends on the system and the system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numerical value)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not quant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can be controllable or uncontro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design in simulation provides for a platform to ascertain particular configurations  to achieve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50B-0751-432B-A437-900A39B1D6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Mod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than just a combination of mathematical formulas which require input parameters and release output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conduct sensitivity analysis (Gradient estimation) – which parameters have the most impact 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84D-42B0-4550-971D-D1CEB55287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mulation Model Validation, Verification and Test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monstrate that the model behaves in a satisfactory way consistent with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bstantiating that a model has transformed from one condition to another as intended and as accurat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if inaccuracies exist in the mode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495-B1CE-4CA6-9D9D-F654EA5766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screte Event Simulation (DES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riving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s in comput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budgets and affor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94D-42DD-40FE-AD54-B8802758E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Techniq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te Car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herently non-probabilistic problem is solved by stochastic (Random) process – explicit representation of time is not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o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riables within the simulation model are continuous functions and change over time – State of the variables change over time (e.g. differential equations); example: rates and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rete Ev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parameters (variables) within the model change at precise moments of simulation time; example Meantime between failure or customer inter-arr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F2E-D0A6-4781-852A-933C4C9FE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ime and Sta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ntext of D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f paramount impor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pinning elementary concepts that define the relationship between Time and State (Nance* 198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stant   (2) Interval    (3) Span    (4) 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e R.E. and Overstreet C.M. (1987), “Diagnostic assistance using digraph representations of DES model specifications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nsactions of the Society for Computer Simulation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. 4, No. , pp. 33-57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F04-2DA9-4F28-8FF9-8205AF294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lementary Modelling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system time in which an attribute of a system compon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ation between two successiv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succession of one or mo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ta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ion of all attribute values associated with an object at a particula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ing to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DD8-735E-4108-8621-E88DA211D3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Simulation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an object over a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a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insta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represents a change i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object stat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it instantiates an activity. A condition expressed as function of time needs to be met for an event to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Activ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tate of an object between tw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scribing successive state changes for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on of states of an object over a time sp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D6C-60D2-481C-A1B6-6BE0C9A47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Simulation Concepts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5300640"/>
            <a:ext cx="669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876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804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5584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48320" y="5467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0" y="4797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9960" y="4460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9400" y="350028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ject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79640" y="25160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27720" y="48672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68360" y="42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292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35640" y="42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000" y="4653000"/>
            <a:ext cx="1008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653000"/>
            <a:ext cx="122400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4800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213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1200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347640" y="501336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501336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47640" y="364500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364500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270828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270828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263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63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77E-2BEA-4A92-94DF-99B54D7FE1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refore 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modelling is the process of describing a system with the goal of experimenting with the model to get a better insight to the behaviour of tha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lect the system, the designed model contains the constituents of the system (i.e. objects) with their associated attributes and the rules of interaction with other objects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el 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9B8-AF3E-4F95-8C31-CF36EFF2A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11-09-09T07:33:34Z</dcterms:modified>
  <cp:revision>40</cp:revision>
  <dc:subject/>
  <dc:title>Discrete Modelling</dc:title>
</cp:coreProperties>
</file>